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623D-5D13-46AA-964D-7B488732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AD5-F75A-45D7-BF52-7997FEB6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103-B2CD-40F2-A755-0BF04DBB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435-6F50-47B0-96C5-40D81141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B3E5-B6D0-4B92-A46C-C41725B7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F6D1-E10D-4B7F-A612-CDEB8E80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CE07-BE43-4060-BFC0-970354D8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30F7-6D9A-4F6A-9225-2A9039AD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2993-4AD8-4041-A34E-1A71D44C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F4A2-36F8-4295-A634-88B0B098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37C9-3D02-4E32-B83A-DB9FAC09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4C0-5B0F-40EA-A483-E7F2ED92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CDEB-C7E8-4A39-879A-D27EA1EF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171B-289C-4567-9FEA-5FC75D26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7C4D-2F60-4B03-9776-C1421EDA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0BB8-1E11-4027-B8AC-7B5A75F3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2DA5-0FB5-403F-A52A-2547B621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50312-E7CD-485C-A222-B7296905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25184-BB70-450F-B3BA-F7A5AE74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FDC2E-0F14-4F7B-858D-E3B8D019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B95B7-0D2C-4936-822E-0F517201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CB11D-4BE5-4AEA-BFCF-42ED0D38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589C-EE69-422F-AF01-0BC39CE7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35A90-C28F-4B46-9764-FB9251FE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91772-3225-4D36-99DB-F4D8BCBC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15370-CA3A-4DFB-AD9A-0836651A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D619B-6A1D-464A-9FE4-FD1529CB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10F36-ACE6-4962-8FAE-701EE25C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00C63-3247-4892-905C-10217425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0C88B-5AE6-4FA1-ACE7-4A88E9DD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E08D1-75AD-4469-AF79-9365D169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1BE76-ACF1-4DDC-BA01-B47BBF95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B84D3-DC34-4502-BD0B-45D9C219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E2B4-F67A-42EF-8886-54B9BB6E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A22E7-D502-4152-8FBB-B13C5046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8657F-4475-4000-B8EC-2DAFC671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427F7-0CB5-4984-B219-C027F013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AC4C6-8552-4828-BF51-4E0487B8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00932-0F3A-4DA1-9FF3-3B5432B8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AEE78-3C02-49B6-AA07-CF6192E6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B2EF2-2FE1-45FD-BA86-445CA730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14B20-EC1D-4BD4-928A-CAC5F958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720CC-D7D7-4CCF-B967-2E0FD9CD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108E6-7A3F-4014-9A76-F3E2FF18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562-7AB5-4894-9CB9-1EFAF239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E576E-910E-47DD-9774-ED8BDC91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249DA-BE31-4475-906E-CAB2EC41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C7EA9-71F5-4805-BBB9-FF7176EE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EB3AD-C694-4F88-8E54-908781BF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5D48A-DEBB-4ADB-8078-B367BE5A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D1474-66CC-4F04-917A-F9586F82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B7EA3-D3AC-414A-952C-E4BBD56D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13987-8C16-4EC7-9325-12266092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3D2A0-7235-4B5F-84A0-F7DC5225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DB339-5051-4530-B915-181BCDE6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BEBF-F789-4775-AD73-0B8A0833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DBF25-0C01-4672-83D3-496041E4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89EA38-6BD7-43E3-A2F6-43F69D16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B8B564-5682-4603-A1AA-7803853D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5B1046-1041-4CA5-8AF8-AC47CE3C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D663E-1CDC-40DA-BAE4-BF722FBD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5B23E-BD53-4744-BB44-4E9C9458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5C0CA5-4876-475E-AC4C-0314C77A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6D59DE-AFCA-41EE-872C-26F05B36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9B828B-9464-450A-B094-25BCB1AB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2F4BAE-DE48-4CF4-AE4A-344DE5DD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0D5E-E9D1-41A1-B383-6737A20B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0F8D4A-0D14-4702-9AB5-94170BB9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712C16-1C76-4331-A8FA-B96F006C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CE4122-9EE4-468E-B84E-C0D3F499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15F65-AE63-4181-825A-16E8391A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6AF96-39C9-49F8-AF62-7A741355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A9D81-0A0C-4B1F-9103-C613BE49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82574-8160-44CE-9C16-8268781A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03F95-6C1E-45DA-8C5E-FE83F363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2EB7C-0FD1-4E53-8405-5F3D8928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54A94-649A-4C3D-9537-B336C7F9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38C9-A18C-4C58-B243-8685938F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08E5C-748A-40F9-BDD9-5D7355CC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46E0D-4637-4FEB-B753-F58628F3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063F7-26E9-458A-A8F1-07C75324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9BB6C-F0C4-4EE1-A43E-F411D7A3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35D31-ED7D-4B85-BDD8-E34071BE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B2DC-2FBD-49CA-85A2-4294BFF1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E5B6-DD8F-4DBA-92CF-07FF31CE2C27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74680"/>
            <a:ext cx="8594640" cy="1334880"/>
            <a:chOff x="274680" y="274680"/>
            <a:chExt cx="859464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74680"/>
              <a:ext cx="85946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1280" y="2938320"/>
            <a:ext cx="7156440" cy="2468880"/>
            <a:chOff x="341280" y="2938320"/>
            <a:chExt cx="7156440" cy="246888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9137-F7B0-415F-B0EE-35440590D2D7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7275-9815-42D1-A139-13832D9D7EBD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91EE-451F-48FB-833C-8A0B16DCFF4A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54040" y="1504800"/>
            <a:ext cx="2725560" cy="3524400"/>
            <a:chOff x="554040" y="1504800"/>
            <a:chExt cx="272556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54040" y="1504800"/>
              <a:ext cx="272556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29FC-09C6-48A1-8200-36F4D8D14CE2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2560" y="4950000"/>
            <a:ext cx="7778880" cy="1377720"/>
            <a:chOff x="682560" y="4950000"/>
            <a:chExt cx="7778880" cy="137772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7888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57D5-B2D3-4248-B995-AC641FFD4805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3F31-F87A-44A4-BC3B-1C886C703C13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534c"/>
                </a:solidFill>
                <a:latin typeface="Book Antiqua"/>
              </a:rPr>
              <a:t>Comparing Plant and Animal Cells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3" name="Picture 4" descr="plant cell"/>
          <p:cNvPicPr/>
          <p:nvPr/>
        </p:nvPicPr>
        <p:blipFill>
          <a:blip r:embed="rId1"/>
          <a:stretch/>
        </p:blipFill>
        <p:spPr>
          <a:xfrm>
            <a:off x="1143000" y="1066680"/>
            <a:ext cx="1625760" cy="1346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animal cell"/>
          <p:cNvPicPr/>
          <p:nvPr/>
        </p:nvPicPr>
        <p:blipFill>
          <a:blip r:embed="rId2"/>
          <a:stretch/>
        </p:blipFill>
        <p:spPr>
          <a:xfrm>
            <a:off x="6629400" y="990720"/>
            <a:ext cx="1371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ells &amp; Energy (more!)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ells store energy from food in ATP molecules. When the cell needs energy, the ATP is broken down to release i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6" name="Picture 4" descr="atp"/>
          <p:cNvPicPr/>
          <p:nvPr/>
        </p:nvPicPr>
        <p:blipFill>
          <a:blip r:embed="rId1"/>
          <a:stretch/>
        </p:blipFill>
        <p:spPr>
          <a:xfrm>
            <a:off x="2743200" y="3352680"/>
            <a:ext cx="3733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ells Using Informa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nucleus is the control center of plant and animal cell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nucleus contains DNA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NA and RNA molecules work together to make proteins.  Cells require thousands of protein molecules in order to work well. (Central Dogma!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9" name="Picture 4" descr="protein"/>
          <p:cNvPicPr/>
          <p:nvPr/>
        </p:nvPicPr>
        <p:blipFill>
          <a:blip r:embed="rId1"/>
          <a:stretch/>
        </p:blipFill>
        <p:spPr>
          <a:xfrm>
            <a:off x="2971800" y="5257800"/>
            <a:ext cx="35812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More DNA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NA in a cell’s nucleus determines what kind of cell it i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NA has instructions for all of the cell</a:t>
            </a:r>
            <a:r>
              <a:rPr b="0" lang="ja-JP" sz="2400" spc="-1" strike="noStrike">
                <a:solidFill>
                  <a:srgbClr val="564b3c"/>
                </a:solidFill>
                <a:latin typeface="Arial"/>
                <a:ea typeface="ＭＳ ゴシック"/>
              </a:rPr>
              <a:t>’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 activitie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NA doubles when a cell divide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2" name="Picture 4" descr="division"/>
          <p:cNvPicPr/>
          <p:nvPr/>
        </p:nvPicPr>
        <p:blipFill>
          <a:blip r:embed="rId1"/>
          <a:stretch/>
        </p:blipFill>
        <p:spPr>
          <a:xfrm>
            <a:off x="3048120" y="4648320"/>
            <a:ext cx="2666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7d72"/>
                </a:solidFill>
                <a:latin typeface="Book Antiqua"/>
              </a:rPr>
              <a:t>Plant Cells vs Animal Cells:</a:t>
            </a:r>
            <a:br>
              <a:rPr sz="3600"/>
            </a:br>
            <a:r>
              <a:rPr b="0" lang="en-US" sz="3600" spc="-1" strike="noStrike">
                <a:solidFill>
                  <a:srgbClr val="6b7d72"/>
                </a:solidFill>
                <a:latin typeface="Book Antiqua"/>
              </a:rPr>
              <a:t>Similarities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animal and plant cells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cell membranes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at enclose the cell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are filled with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cytoplasm,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a gel-like substance containing chemicals needed by the cell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have a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nucleu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wher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DNA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is stored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ribosome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, protein builders of cell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Similarities Continued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plant and animal cells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mitochondria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that use oxygen to break down food and release energ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kinds of cells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vacuole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that contain food, water, or waste products. (Animal cells usually have many more vacuoles than plant cells do.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A Few More Similaritie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endoplasmic reticulum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, where a system of tubes transports protein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Golgi bodie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to distribute proteins outside of the cell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1" name="Picture 4" descr="MP900390197[1]"/>
          <p:cNvPicPr/>
          <p:nvPr/>
        </p:nvPicPr>
        <p:blipFill>
          <a:blip r:embed="rId1"/>
          <a:stretch/>
        </p:blipFill>
        <p:spPr>
          <a:xfrm>
            <a:off x="2819520" y="4114800"/>
            <a:ext cx="3657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b7d72"/>
                </a:solidFill>
                <a:latin typeface="Book Antiqua"/>
              </a:rPr>
              <a:t>Plant Cells Only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lant cells have </a:t>
            </a:r>
            <a:r>
              <a:rPr b="0" i="1" lang="en-US" sz="2400" spc="-1" strike="noStrike">
                <a:solidFill>
                  <a:srgbClr val="3366ff"/>
                </a:solidFill>
                <a:latin typeface="Century Gothic"/>
              </a:rPr>
              <a:t>cell walls</a:t>
            </a:r>
            <a:r>
              <a:rPr b="0" lang="en-US" sz="2400" spc="-1" strike="noStrike">
                <a:solidFill>
                  <a:srgbClr val="3366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at provide structure.  Animal cells do not have cell wall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lant cells have </a:t>
            </a:r>
            <a:r>
              <a:rPr b="0" i="1" lang="en-US" sz="2400" spc="-1" strike="noStrike">
                <a:solidFill>
                  <a:srgbClr val="3366ff"/>
                </a:solidFill>
                <a:latin typeface="Century Gothic"/>
              </a:rPr>
              <a:t>chloroplast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for photosynthesis, which is how they make their food/energy. Animal eat to get their energy, thus animal cells do not have chloroplast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lant cells have much larger </a:t>
            </a:r>
            <a:r>
              <a:rPr b="0" i="1" lang="en-US" sz="2400" spc="-1" strike="noStrike">
                <a:solidFill>
                  <a:srgbClr val="3366ff"/>
                </a:solidFill>
                <a:latin typeface="Century Gothic"/>
              </a:rPr>
              <a:t>vacuoles</a:t>
            </a:r>
            <a:r>
              <a:rPr b="0" lang="en-US" sz="2400" spc="-1" strike="noStrike">
                <a:solidFill>
                  <a:srgbClr val="3366ff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40382d"/>
                </a:solidFill>
                <a:latin typeface="Century Gothic"/>
              </a:rPr>
              <a:t>typically they have one large, central vacuole </a:t>
            </a:r>
            <a:r>
              <a:rPr b="0" i="1" lang="en-US" sz="2400" spc="-1" strike="noStrike">
                <a:solidFill>
                  <a:srgbClr val="4038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PLANT CELLS ONL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One of the reasons plant cells have larger vacuoles is for structure and suppor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s a vacuole is filled with water, the pressure inside pushes against the cell wall, help the plant to support it’s rigid structur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s is called </a:t>
            </a:r>
            <a:r>
              <a:rPr b="0" i="1" lang="en-US" sz="2400" spc="-1" strike="noStrike">
                <a:solidFill>
                  <a:srgbClr val="3366ff"/>
                </a:solidFill>
                <a:latin typeface="Century Gothic"/>
              </a:rPr>
              <a:t>turgor pressur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3962520" y="4495680"/>
            <a:ext cx="4559040" cy="18176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1984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More Differences: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nimal cells use </a:t>
            </a:r>
            <a:r>
              <a:rPr b="0" lang="en-US" sz="2400" spc="-1" strike="noStrike">
                <a:solidFill>
                  <a:srgbClr val="3366ff"/>
                </a:solidFill>
                <a:latin typeface="Century Gothic"/>
              </a:rPr>
              <a:t>mitochondria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for energy production.  Plants primarily use </a:t>
            </a:r>
            <a:r>
              <a:rPr b="0" lang="en-US" sz="2400" spc="-1" strike="noStrike">
                <a:solidFill>
                  <a:srgbClr val="3366ff"/>
                </a:solidFill>
                <a:latin typeface="Century Gothic"/>
              </a:rPr>
              <a:t>chloroplast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to produce energ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nimals cells have </a:t>
            </a:r>
            <a:r>
              <a:rPr b="0" i="1" lang="en-US" sz="2400" spc="-1" strike="noStrike">
                <a:solidFill>
                  <a:srgbClr val="3366ff"/>
                </a:solidFill>
                <a:latin typeface="Century Gothic"/>
              </a:rPr>
              <a:t>lysosomes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ut plant cells do no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ells &amp; Energ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ells get energy originally from the su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n plant cells, chloroplasts trap light energy and change it into chemical energ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chemical energy is stored in bonds between atoms of carbon, hydrogen, and oxyge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ells &amp; Energy (continued!)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hemical bonds hold two or more atoms together to form molecules of sugar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plant and animal cells break down these molecules by breaking the chemical bond.  When the bonds are broken, energy is released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ells can either use the energy or store i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Mitochondria in plant and animal cells use oxygen to release this energ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2:00:43Z</dcterms:created>
  <dc:creator>WSFCS Workstation</dc:creator>
  <dc:description/>
  <dc:language>en-US</dc:language>
  <cp:lastModifiedBy>Geneva Jost</cp:lastModifiedBy>
  <dcterms:modified xsi:type="dcterms:W3CDTF">2016-11-15T15:05:25Z</dcterms:modified>
  <cp:revision>9</cp:revision>
  <dc:subject/>
  <dc:title>Comparing Plant and Animal Cells</dc:title>
</cp:coreProperties>
</file>